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C2B0-7362-409C-9567-39F84773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A07-5877-48DD-8EAC-8F9AFD52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593F-3F18-48A5-BF63-1665C514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D0D-2260-491E-8DD3-9B0270A6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253C-E126-4C57-9D31-D91CD357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21E0-AA8D-4FD9-BE0D-E58D1272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2160-E510-4B4F-9B81-8E02063E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B5C1-6E20-4F1A-9F55-9095D649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65CD-78C6-452D-9992-AE747946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8DDD-ABED-4A80-A712-D8693911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8DC8-716B-420E-A264-D38EEC83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BD8-E0F8-4C40-94FA-F8BC1F4A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924D-6140-4D7F-9DC7-A45FD5F2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7F6E-F251-46C9-81F7-6BECC41F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FA46-4555-46B2-8FE3-A85149AE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A4A6-0FE6-479C-954B-CF73C940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BB44-C26C-4A06-B342-E9D58191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718-EA82-4AE8-8F9C-E47F9E3C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2C8E-83C7-483A-B2A2-C9F27ED7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390-9111-430C-B0FC-230CDD28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B72-931F-4241-B473-6DBA9D05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EEB7-D5A4-433F-A9B9-EF35C342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BF02-1B77-4AA6-A298-E8FA7C0C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168-7921-4DE1-93D4-2B5B79A6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9D09-A8BD-437A-AF6C-808090912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1D66-41DA-4747-B7E0-8D5468BF72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arly Republic of Rom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cial Structure, Government, &amp; Milit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r. Paglia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day’s Key Vocabul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atrici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upper class citizens of 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lebei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common citizens of 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welve Tab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list of rights and duties of Roman citizens (est. 450 B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su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led the Roman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n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law making body in 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ibu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representatives of Rome’s common citize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Early Republic: Social Structure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523880"/>
          <a:ext cx="8229600" cy="4965840"/>
        </p:xfrm>
        <a:graphic>
          <a:graphicData uri="http://schemas.openxmlformats.org/drawingml/2006/table">
            <a:tbl>
              <a:tblPr/>
              <a:tblGrid>
                <a:gridCol w="4037040"/>
                <a:gridCol w="4192560"/>
              </a:tblGrid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cia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ebeia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Circle one:            Majority   OR    Min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Key points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WEALTHY</a:t>
                      </a: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LED GOVERN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INHERITED POW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CHANGED LAWS TO SUIT NEED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Circle one:            Majority    OR    Min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Key points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COMMON CITIZENS (MERCHANTS, ARTISANS, FARME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HAD VOTING RIGH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COULDN’T HOLD MAJOR GOVERNMENT POSI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UNCLEAR RIGHTS/RESPONSIBILITI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Twelve Tab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Cause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Purpose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Effects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Early Republic: Government &amp; Military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1066680"/>
            <a:ext cx="8228880" cy="5027400"/>
            <a:chOff x="457200" y="1066680"/>
            <a:chExt cx="8228880" cy="5027400"/>
          </a:xfrm>
        </p:grpSpPr>
        <p:cxnSp>
          <p:nvCxnSpPr>
            <p:cNvPr id="90" name="_s37928"/>
            <p:cNvCxnSpPr>
              <a:stCxn id="91" idx="0"/>
              <a:endCxn id="92" idx="2"/>
            </p:cNvCxnSpPr>
            <p:nvPr/>
          </p:nvCxnSpPr>
          <p:spPr>
            <a:xfrm flipV="1" rot="16200000">
              <a:off x="5508360" y="2139480"/>
              <a:ext cx="1006200" cy="2880720"/>
            </a:xfrm>
            <a:prstGeom prst="bentConnector3">
              <a:avLst>
                <a:gd name="adj1" fmla="val 113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37927"/>
            <p:cNvCxnSpPr>
              <a:stCxn id="94" idx="0"/>
              <a:endCxn id="92" idx="2"/>
            </p:cNvCxnSpPr>
            <p:nvPr/>
          </p:nvCxnSpPr>
          <p:spPr>
            <a:xfrm flipV="1">
              <a:off x="4571280" y="3076920"/>
              <a:ext cx="3240" cy="100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37926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2628360" y="2139840"/>
              <a:ext cx="1006200" cy="2880720"/>
            </a:xfrm>
            <a:prstGeom prst="bentConnector3">
              <a:avLst>
                <a:gd name="adj1" fmla="val 113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37922"/>
            <p:cNvSpPr/>
            <p:nvPr/>
          </p:nvSpPr>
          <p:spPr>
            <a:xfrm>
              <a:off x="3337200" y="1066680"/>
              <a:ext cx="2468520" cy="2010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Consuls: (2)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Class-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Patricia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Term- 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1 yea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Role-  Led government &amp; arm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37923"/>
            <p:cNvSpPr/>
            <p:nvPr/>
          </p:nvSpPr>
          <p:spPr>
            <a:xfrm>
              <a:off x="457200" y="4083120"/>
              <a:ext cx="2468520" cy="2010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Senate: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Class-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Patricia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Term-   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For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Role-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Make Law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37924"/>
            <p:cNvSpPr/>
            <p:nvPr/>
          </p:nvSpPr>
          <p:spPr>
            <a:xfrm>
              <a:off x="3337200" y="4083120"/>
              <a:ext cx="2468520" cy="2010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Centuriate Assembly</a:t>
              </a: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: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Members-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Soldi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Term- For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Role-  Elect Consuls &amp; judges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and Make Law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37925"/>
            <p:cNvSpPr/>
            <p:nvPr/>
          </p:nvSpPr>
          <p:spPr>
            <a:xfrm>
              <a:off x="6217560" y="4083120"/>
              <a:ext cx="2468520" cy="2010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_s1033"/>
          <p:cNvSpPr/>
          <p:nvPr/>
        </p:nvSpPr>
        <p:spPr>
          <a:xfrm>
            <a:off x="6172200" y="4038480"/>
            <a:ext cx="2514600" cy="2057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ibal Assembly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mbers-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l citiz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rm-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ole- Elect Tribunes, Make La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952880" y="1076400"/>
            <a:ext cx="4038840" cy="2806560"/>
            <a:chOff x="4952880" y="1076400"/>
            <a:chExt cx="4038840" cy="2806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4952880" y="1828800"/>
              <a:ext cx="243864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658280" y="1076400"/>
              <a:ext cx="1333440" cy="1514520"/>
            </a:xfrm>
            <a:prstGeom prst="borderCallout1">
              <a:avLst>
                <a:gd name="adj1" fmla="val 18750"/>
                <a:gd name="adj2" fmla="val -8333"/>
                <a:gd name="adj3" fmla="val 67296"/>
                <a:gd name="adj4" fmla="val -60000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raetor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Judicial Branch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Oversee courts and provinces of Ro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1523880"/>
            <a:ext cx="8077320" cy="441972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00"/>
                </a:solidFill>
                <a:latin typeface="Snap ITC"/>
              </a:rPr>
              <a:t>Dictat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5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ffff"/>
                </a:solidFill>
                <a:latin typeface="Albertus"/>
              </a:rPr>
              <a:t>Absolute pow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5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ffff"/>
                </a:solidFill>
                <a:latin typeface="Albertus"/>
              </a:rPr>
              <a:t>Term:6 month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5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ffff"/>
                </a:solidFill>
                <a:latin typeface="Albertus"/>
              </a:rPr>
              <a:t>When? In times of CRI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it matters now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f the fundamental values and institutions of Western civilization began in the Roman Re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overnment of United States is based upon the Roman Repub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5:01:01Z</dcterms:created>
  <dc:creator>cpagliaro</dc:creator>
  <dc:description/>
  <dc:language>en-US</dc:language>
  <cp:lastModifiedBy>cpagliaro</cp:lastModifiedBy>
  <dcterms:modified xsi:type="dcterms:W3CDTF">2008-12-17T15:27:05Z</dcterms:modified>
  <cp:revision>5</cp:revision>
  <dc:subject/>
  <dc:title>The Early Republic of Rome</dc:title>
</cp:coreProperties>
</file>